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A45-4E50-4D12-83BA-89A7169D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99B-38CE-4E8D-B010-1D5689EC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D3B-21AA-4855-9BC5-DDBFB38B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405-3238-4698-A651-EA865527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FCBB-CF35-46E4-BFF1-74A93DC1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8D0-4266-4577-9EB9-37F06EF4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0623-696B-45F8-BD8C-ACDAE651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AABF-C7D3-4DA8-B2AF-BBEAFB3D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C21-6921-4589-84B0-68E7BCFE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BEF-E3C1-455A-8168-D6753BC7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CAA-50E0-4C0D-B72F-2A41C7AC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6FE-D2DA-41A1-A941-C22B74E0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6F6B-2298-44A1-9778-086B157FA7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рфограммы в суффиксах существитель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авьте пропущенные бук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640" y="1447920"/>
            <a:ext cx="207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зубр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447920"/>
            <a:ext cx="3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920" y="2133720"/>
            <a:ext cx="197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у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40" y="2819520"/>
            <a:ext cx="251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иногра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7640" y="3505320"/>
            <a:ext cx="257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едвежат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9360" y="4267080"/>
            <a:ext cx="14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с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4480" y="4952880"/>
            <a:ext cx="188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ва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640" y="5715000"/>
            <a:ext cx="22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ковал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1447920"/>
            <a:ext cx="201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ло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5000" y="21337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иков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5000" y="2895480"/>
            <a:ext cx="194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рещ 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29600" y="3581280"/>
            <a:ext cx="160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ы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5440" y="4267080"/>
            <a:ext cx="23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локо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4280" y="502920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ю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4280" y="571500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6800" y="1447920"/>
            <a:ext cx="156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ес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5200" y="2209680"/>
            <a:ext cx="212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2960" y="3048120"/>
            <a:ext cx="222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рке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900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160" y="28195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8840" y="35053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426708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95288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0600" y="571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85840" y="14479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536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1840" y="2895480"/>
            <a:ext cx="38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4480" y="356544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34320" y="42512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9400" y="501336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7120" y="571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6640" y="14018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8920" y="22096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48920" y="30481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лал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пе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уг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п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а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и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ем*чк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естр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я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с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д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уф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ст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ук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т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б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50000">
              <a:srgbClr val="ffffff"/>
            </a:gs>
            <a:gs pos="100000">
              <a:srgbClr val="9898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0"/>
          <a:ext cx="8991360" cy="6857640"/>
        </p:xfrm>
        <a:graphic>
          <a:graphicData uri="http://schemas.openxmlformats.org/drawingml/2006/table">
            <a:tbl>
              <a:tblPr/>
              <a:tblGrid>
                <a:gridCol w="4495680"/>
                <a:gridCol w="449568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л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пе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я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ф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ечк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г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к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аскательных суффиксах собственных имен существительных пиш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м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женского и среднего родов, образованных от существительных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ч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в существительных, если у них есть однокоренные слова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ушк, -юшк-, -ышк--ишк-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3520" y="2205000"/>
            <a:ext cx="49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ье    -            пла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0640" y="28526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ро      -            реб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2080" y="3500280"/>
            <a:ext cx="46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я        -            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12800" y="4149720"/>
            <a:ext cx="49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жье     -            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12080" y="4797360"/>
            <a:ext cx="50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а   -            мур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3160" y="5445000"/>
            <a:ext cx="50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ло    -            сверл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ишк-, -ышк-, -юшк-, уш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89880" y="1989000"/>
            <a:ext cx="40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о       -      пе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7720" y="2708280"/>
            <a:ext cx="43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рода   -      бород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18240" y="3357720"/>
            <a:ext cx="46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оба  -     стыдоб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18960" y="4076640"/>
            <a:ext cx="42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рно       -     зер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18240" y="4797360"/>
            <a:ext cx="43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ья      -    гос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18960" y="5589720"/>
            <a:ext cx="44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я          -     Со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всех трех родов с мягкой основой пишется суффикс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</a:t>
            </a:r>
            <a:r>
              <a:rPr b="0" lang="ru-RU" sz="28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среднего родов с мягк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и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женского родов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у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ы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*ц, а в существительных женского рода - -*ц. (красав*ц, красав*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*ц, если ударение падает на окончание (ружь*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*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*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а в существительных женского рода -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. (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падает на окончание (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бр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ита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фами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пь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астлив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ст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р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кн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дл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дал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*к пишется тогда, когда при склонении гласный в суффиксе выпадает, а   *к, если не выпадает (ключ*к – ключ*ка, замоч*к – замоч*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бр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ь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т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дал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кн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дл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та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фами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астлив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разуйте от данных слов однокоренные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ен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38560" y="105264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37480" y="155736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я         -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38920" y="206064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я        -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39280" y="256536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8200" y="314172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71680" y="371628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я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39280" y="422100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38560" y="47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я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5373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я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38920" y="6021360"/>
            <a:ext cx="19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я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16720" y="104940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155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06064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872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720" y="314172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720" y="371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17080" y="422100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479736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5373720"/>
            <a:ext cx="158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602136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вор       а уселся на дерево перед ок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198900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1480" y="263376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      а вбежала в 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85280" y="2633760"/>
            <a:ext cx="7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ч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6800" y="320976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белая берез        а с зеленою кос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3209760"/>
            <a:ext cx="9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920" y="371304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спасибо тебе, дед        а, за солн        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71304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8560" y="371304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360" y="421812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рвал куп      аленький цветоч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4218120"/>
            <a:ext cx="5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7080" y="4218120"/>
            <a:ext cx="5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4840" y="4794120"/>
            <a:ext cx="74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незд        о птица вьет в укромном ме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720" y="479412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960" y="529740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пес       ой веселой позабав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8000" y="52974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052360"/>
            <a:ext cx="798984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другой год засеяли пол         о пшениц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7080" y="20574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0800" y="2705040"/>
            <a:ext cx="68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енок Васька - всеобщий любим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89440" y="270504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342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не всегда хватает врем     и на чт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93800" y="342900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1520" y="4070520"/>
            <a:ext cx="65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х         а в доме совсем маленьк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640" y="4073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400" y="4791240"/>
            <a:ext cx="44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а моя однофамил     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96720" y="479412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пишется тогда, когда при склонении гласный в суффиксе выпадает, а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, если не выпадает (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, зам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замоч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Распределите слова в таблице</a:t>
            </a:r>
            <a:r>
              <a:rPr b="0" lang="en-US" sz="3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 зависимости от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вит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ла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ал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у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д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н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л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рыв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ар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ы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ыж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е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л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д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н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л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ар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ыж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ит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а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ыв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ы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означающих лиц женского пола: француж*нка, а также в большой группе существительных женского рода на –ня и –на: вишня – виш*нка, сосна – сос*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разованных от слов на –ина: горошина – горош*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означающих лиц женского пола: француж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а также в большой группе существительных женского рода на –ня и –на: вишня – ви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сосна – сос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разованных от слов на –ина: горошина – горо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3-04-21T08:59:41Z</dcterms:modified>
  <cp:revision>115</cp:revision>
  <dc:subject/>
  <dc:title>PowerPoint Presentation</dc:title>
</cp:coreProperties>
</file>